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190DE-7CAE-4FB2-B3AC-5B7FD7B23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6AFA1-9AFA-41BE-A692-469E89B8C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25B51-B553-4E00-8EB3-8D061DC6B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E167B-DAD9-4DE9-8B24-A407BFBC6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14CDE-AA6B-44FE-8812-9CA3206CB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4CEE-98BA-45B1-872B-2AE82E452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5C825-E689-4284-833E-B32A8A96C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03DE5-F005-42B0-89F2-3FA4FD20E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41593-805C-4F89-803C-F89660116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8411C-8F00-4C03-844D-E8D9D0E36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39564-27F3-424B-8276-FB4211202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B4A25-EB86-4E8E-901D-C03C22455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022A0-2FEE-409F-8028-7B4467415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10DC8-4642-4FBF-89AB-33B3AEDD2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539640" y="928800"/>
            <a:ext cx="828036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читательской грамотности на уроках русского языка и литерату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-252360" y="657360"/>
            <a:ext cx="1004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 «Верите ли вы, что…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79280" y="1268280"/>
            <a:ext cx="87854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мения: связывать разрозненные факты в единую картину; систематизировать уже имеющуюся информацию. Этот прием может стать нетрадиционным началом урока и в то же время способствовать вдумчивой работе с текстом, критически воспринимать информацию, делать выводы о точности и ценности информации. Учащимся предлагаются утверждения,  с которыми они работают дважды: до чтения текста параграфа учебника и после знакомства с ни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324000" y="260280"/>
            <a:ext cx="842472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рите ли вы?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 при знакомстве с биографией любого писателя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ушкин родился до Отечественной войны 1812 года в Санкт –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чил образование в Царскосельском Лиц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жил секретарём в су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исал поэму «Бороди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гиб от тяжелой раны, полученной на дуэ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учеников убедиться в своей правоте, узнать истину заставляет их с     большим вниманием читать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108000" y="189000"/>
            <a:ext cx="9036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онцептуальная таблица» или «Сводная табл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50920" y="1436760"/>
            <a:ext cx="806616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систематизировать информацию, проводить параллели между явлениями, событиями или фактами. Одна колонка называется «линией сравнения». В ней перечислены те категории, по которым мы предполагаем сравнивать какие-то явления, события, факты. Желательно, чтобы линий сравнения было не меньше трех, но не больше шести. Такое количество позиций легче удержать в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1125360"/>
          <a:ext cx="8280360" cy="2305080"/>
        </p:xfrm>
        <a:graphic>
          <a:graphicData uri="http://schemas.openxmlformats.org/drawingml/2006/table">
            <a:tbl>
              <a:tblPr/>
              <a:tblGrid>
                <a:gridCol w="3012840"/>
                <a:gridCol w="2633760"/>
                <a:gridCol w="26337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авнение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ы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Встре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ведение в пле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обег(перв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5"/>
          <p:cNvSpPr/>
          <p:nvPr/>
        </p:nvSpPr>
        <p:spPr>
          <a:xfrm>
            <a:off x="92160" y="301680"/>
            <a:ext cx="10028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«Кавказский пленник» Л.Н.Толс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971640" y="3789360"/>
            <a:ext cx="799308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позволяет развивать помимо умения работы с текстом, следующие умения: выделять ключевые слова, систематизировать необходимую информацию, анализировать, сравнивать и обобщать информацию, развивать монологическую ре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«Маркиров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503280" y="981000"/>
            <a:ext cx="86407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прием маркировки текста: на лист учебника с текстом надеваем файл, в руки берем цветной маркер и читаем текст по абзацам, выделяя главное и отмечая цифрами абзацы. Далее нужно пересказать по маркированному. Кроме того, что этот прием незаменимо действует при работе с лингвистическими текстами, также успешно его можно использовать при составлении плана люб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еставрация текс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50920" y="1593720"/>
            <a:ext cx="8604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целого текста из частей. Эффективен при изучении, например,  в 5 классе тем: “Текст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текста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разделяется на части (предложения, абза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м предлагается собрать текст из разрозненных частей, разложив их в правильной последовательности. В качестве варианта выполнения задания ученики могут предложить несколько различных путей последовательного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71640" y="5823000"/>
          <a:ext cx="6076800" cy="27468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55640" y="3645000"/>
          <a:ext cx="8012160" cy="2178000"/>
        </p:xfrm>
        <a:graphic>
          <a:graphicData uri="http://schemas.openxmlformats.org/drawingml/2006/table">
            <a:tbl>
              <a:tblPr/>
              <a:tblGrid>
                <a:gridCol w="4005360"/>
                <a:gridCol w="4006800"/>
              </a:tblGrid>
              <a:tr h="21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 Косты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лабый, трусли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боится, страдает, сто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 Костылин – личность слабохаракте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 пленник, т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Жи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ыносливый, муж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е сдается, мастерит, бор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Жилин – настоящий русский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храбр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11" name="TextBox 6"/>
          <p:cNvSpPr/>
          <p:nvPr/>
        </p:nvSpPr>
        <p:spPr>
          <a:xfrm>
            <a:off x="1317960" y="163440"/>
            <a:ext cx="6544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 «Написание синквей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68360" y="907920"/>
            <a:ext cx="829944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инквейна требует от ученика в кратких выражениях резюмировать учебный материал, информацию, что позволяет размышлять по какому-либо поводу. Это форма свободного творчества, но по определенным прави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285920" y="-121680"/>
            <a:ext cx="714384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ssandra"/>
                <a:ea typeface="Times New Roman"/>
              </a:rPr>
              <a:t>«Перепутанные логические цепоч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ы верные и неправильные цитаты, ученики должны прочитать и поставить знак “+” там, где они считают, что высказывание 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нак “-” там,  где по их мнению оно нев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Чтение с пометкам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08000" y="1197000"/>
            <a:ext cx="87469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7000"/>
          </a:bodyPr>
          <a:p>
            <a:pPr marL="209520" indent="-20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дает ученикам задание написать на полях значками информацию по следующему алгорит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знаком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нов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 я думал (думала) ина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это меня заинтересовало (удивило), хочу узнать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1835280" y="312840"/>
            <a:ext cx="56037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южетная табл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630360" y="930240"/>
            <a:ext cx="786744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работы с этой таблицей заключается в том, что  ребенок, читая текст,  делает пометки, отвечает на вопросы, создавая “скелет” текста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879640"/>
          <a:ext cx="9036000" cy="549360"/>
        </p:xfrm>
        <a:graphic>
          <a:graphicData uri="http://schemas.openxmlformats.org/drawingml/2006/table">
            <a:tbl>
              <a:tblPr/>
              <a:tblGrid>
                <a:gridCol w="1854360"/>
                <a:gridCol w="1795320"/>
                <a:gridCol w="1795320"/>
                <a:gridCol w="1795680"/>
                <a:gridCol w="1795320"/>
              </a:tblGrid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Box 8"/>
          <p:cNvSpPr/>
          <p:nvPr/>
        </p:nvSpPr>
        <p:spPr>
          <a:xfrm>
            <a:off x="1027080" y="4206960"/>
            <a:ext cx="70740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таблица помогает детям воссоздавать сюжет. При этом они овладевают сюжетным мыш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39640" y="549360"/>
            <a:ext cx="8460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, - говорил выдающийся педагог В. А. Сухомлинский, - это окошко, через которое дети видят и познают мир и самих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необходима  систематическая, целенаправленная работа над развитием и совершенствованием навыков беглого  осознанного чтения от класса к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ы будем использовать приемы и методы быстрого и эффективного чтения, то получим читающего уче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25280" y="1341360"/>
            <a:ext cx="8893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4643280" y="189000"/>
            <a:ext cx="3961080" cy="971640"/>
          </a:xfrm>
          <a:custGeom>
            <a:avLst/>
            <a:gdLst>
              <a:gd name="textAreaLeft" fmla="*/ 0 w 3961080"/>
              <a:gd name="textAreaRight" fmla="*/ 3961440 w 396108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3960440" h="9715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25280" y="1341360"/>
            <a:ext cx="889344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Читательская грамотность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это первая ступень в функциональной грамотност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Читательская грамотность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человека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нима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использовать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енные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тексты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мышлять о них и заниматься чтением для того, чтобы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стигать своих целей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рять свои знания и возможности, участво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циальной     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50920" y="379440"/>
            <a:ext cx="10223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читательская грамот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95280" y="26028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ельские ум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ть главную мысль всего текста или его ча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информацию, содержащуюся в тек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ывать текстовую информацию с учетом цели дальнейшего исполь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информацию из текста в изменённой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и оценивать степень достоверности, содержащейся в тексте        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468360" y="260280"/>
            <a:ext cx="820728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179280" y="549360"/>
            <a:ext cx="864072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4 основных способа осмысления текс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ановка вопросов (о новом ) к текст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роение смысловых опор (планов, таблиц, схем, опорных конспектов…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вторичных текстов (например, в результате конспектирования, пересказа и других видов сжати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руирование собственных высказываний о прочита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24000" y="189000"/>
            <a:ext cx="8423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«Лингвистическая сказ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мение извлекать необходимую информацию из прослушанного текста.  Можно, например, стать капитаном и отправиться на паруснике в Страну Ошибок спасать безударную гласну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79280" y="-15840"/>
            <a:ext cx="875052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азка о корнях –ГОР- и –ГАР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ком условии происходит чередование корней     -ГОР- и –ГАР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а-была в стране Русского языка Грамматика. Строгая была и умная. Прислуживали ей два пажа — ГОР и ГАР. И она никак не могла их отличить: уж очень они были похожи друг на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днажды царица собрала Совет. Явились Гласные, Ударение, Суффиксы, Корни, Приставки. Царица говорит: «Помогите мне: научите, как различать моих пажей. Кто поможет, тот будет награжден». Первым вызвалось Ударение. Оно подпрыгнуло и остановилось над ГАР. Да так и осталось навсег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ех пор, как увидит царица над корнем Ударение, то уже знает, что это паж ГАР, а без ударения — 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297000"/>
            <a:ext cx="8964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исьмо с дырками (пробелами)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60360" y="1773360"/>
            <a:ext cx="860436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7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ием рекомендуется для  формирования читательского умения находить и толковать информацию текста. Он подойдет в качестве проверки усвоенных ранее знаний и для работы с параграфом при изучении нового матери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08000" y="260280"/>
            <a:ext cx="8928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исьмо с дырками (пробелами)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а о существительном по опорным слов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мя сущ.  обознача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на вопрос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форма имени сущ. - … падеж…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мена сущ. имеют следующие постоянные призна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ятся к … или …, или … роду, к … , или … , или … скло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. имеют следующие непостоянные признаки: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е изменяются по … и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предложении имя сущ.  может быть как …, … , … , … 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сущ.  не является членом предложения, ес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25-03-19T12:57:12Z</dcterms:modified>
  <cp:revision>129</cp:revision>
  <dc:subject/>
  <dc:title>Слайд 1</dc:title>
</cp:coreProperties>
</file>